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7F381-E7FE-4D62-8291-9B74992DD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8837B-9211-453B-99F2-CB08DFBFE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68DC8-1B35-4F52-B467-014688003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EFABC-EEB3-41B0-ADEE-CBFEE1E7D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0EB43-A4CA-45BB-AA73-A858651B8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CB65F-0604-4587-A829-55631537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13351-A35C-455C-A986-76C8D08AC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A2D1E-0AF9-429A-A591-409BD4034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0790F-0D05-4893-9D48-DAE01B3B9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E8F9A-07C5-4E0C-AA26-B8DE96E09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5B62-D80A-495C-BB63-B8F8FDE2F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2BA04-B7A7-4D9C-9EE0-BB058FDF6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8217-97CF-45E2-B1A0-DD56BE02F5E1}"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
  <dc:description/>
  <dc:language>en-US</dc:language>
  <cp:lastModifiedBy/>
  <dcterms:modified xsi:type="dcterms:W3CDTF">2024-08-21T04:27:46Z</dcterms:modified>
  <cp:revision>6</cp:revision>
  <dc:subject/>
  <dc:title/>
</cp:coreProperties>
</file>