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359D0-166C-4CBB-A0A4-B9E40C4BB8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D37BD-135B-48CC-A111-C28494782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039036-4B61-4034-B81E-23AEE3BA3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D2581A-F1D6-4CAA-9B86-89B6AC974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D7207-30D8-443C-AC35-0A3067128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D1977-2663-43F6-A57A-00AE8EF97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14798-1AD4-4F54-9106-81BB736D7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8D04D-68C3-4123-8292-2AD513D07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2FB64-2A9C-40D2-B77A-5D7A9A270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2C883-DC75-43A3-8206-2E2349EE5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1F7B5-1B50-4F9C-A841-D480A2C8C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5BFAD-3DDE-4ADA-ADA3-2D4A19315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0CF0-0BAB-4453-B366-40D69A1DD4F8}"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
  <dc:description/>
  <dc:language>en-US</dc:language>
  <cp:lastModifiedBy/>
  <dcterms:modified xsi:type="dcterms:W3CDTF">2024-08-21T04:27:46Z</dcterms:modified>
  <cp:revision>6</cp:revision>
  <dc:subject/>
  <dc:title/>
</cp:coreProperties>
</file>