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600B7-DAB5-4129-9D2E-4505792E6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25937-6DB3-4C56-8718-C6657888B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FA20C-E6FB-478E-96CD-480A31896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24B66-3136-42D4-89B4-2A5834882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2655C-A5B8-4A9A-B7F9-4B67C5BE7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074C5-FF78-4CF7-84BA-1C4F896A2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B20E3-BFB0-48D8-AB31-6E7ED9040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28B3B-371D-4B1B-B0F8-C3C4E3745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812B4-B903-4153-92E2-B2EC1382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EB3B-7A19-4999-B618-66D59677D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AA270-A1E2-4E9C-B3DF-41DB0C6F9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F261-ACBA-4A54-B400-AE11C0686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673B-70DA-47EC-B453-322D15DD3F52}"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
  <dc:description/>
  <dc:language>en-US</dc:language>
  <cp:lastModifiedBy/>
  <dcterms:modified xsi:type="dcterms:W3CDTF">2024-08-21T04:27:46Z</dcterms:modified>
  <cp:revision>6</cp:revision>
  <dc:subject/>
  <dc:title/>
</cp:coreProperties>
</file>