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00450" cy="1800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BA2-C053-4674-98D3-7EE68E17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7320" y="479520"/>
            <a:ext cx="31050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7320" y="1076040"/>
            <a:ext cx="31050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98A-594A-4723-96EC-203575F1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7320" y="47952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38160" y="47952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7320" y="107604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38160" y="107604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774-6BE5-4C4A-AAF2-EAB9AF4E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7320" y="479520"/>
            <a:ext cx="999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7440" y="479520"/>
            <a:ext cx="999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47560" y="479520"/>
            <a:ext cx="999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7320" y="1076040"/>
            <a:ext cx="999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7440" y="1076040"/>
            <a:ext cx="999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47560" y="1076040"/>
            <a:ext cx="999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39C-2E80-4FA5-95F1-2A6AD39C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7320" y="479520"/>
            <a:ext cx="310500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4B9-3E5A-4BC8-B221-ECC08C22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7320" y="479520"/>
            <a:ext cx="31050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F9F-ADC7-4AB0-BF9E-FA63B120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7320" y="479520"/>
            <a:ext cx="15148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38160" y="479520"/>
            <a:ext cx="15148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FFA-84F9-4571-A6FD-55FFDD83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ED0-BFC4-4CAA-A6AA-898A58C1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7320" y="95400"/>
            <a:ext cx="310500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66C-8AED-423B-B6E2-63B4BF39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7320" y="47952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38160" y="479520"/>
            <a:ext cx="15148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7320" y="107604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7D9-E1C3-4C00-A915-5D425EC9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7320" y="479520"/>
            <a:ext cx="15148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38160" y="47952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38160" y="107604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5FA-01C0-405B-BAC5-9DD45C7B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7320" y="47952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38160" y="479520"/>
            <a:ext cx="15148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7320" y="1076040"/>
            <a:ext cx="31050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FF8-3096-4CA2-83E9-2F4A4AD2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320" y="95400"/>
            <a:ext cx="3105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7320" y="479520"/>
            <a:ext cx="31050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680" indent="-5868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-5868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299880" indent="-5868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3" marL="419040" indent="-5868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4" marL="539640" indent="-5868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5" marL="539640" indent="-5868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6" marL="539640" indent="-5868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7320" y="1668600"/>
            <a:ext cx="809640" cy="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3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1668600"/>
            <a:ext cx="1216080" cy="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42680" y="1668600"/>
            <a:ext cx="809640" cy="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3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A9C48-B3CF-44AD-9ACC-823F6E2FB8F5}" type="slidenum">
              <a:rPr b="0" lang="ja-JP" sz="3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19T04:11:53Z</dcterms:created>
  <dc:creator>k y</dc:creator>
  <dc:description/>
  <dc:language>en-US</dc:language>
  <cp:lastModifiedBy>k y</cp:lastModifiedBy>
  <dcterms:modified xsi:type="dcterms:W3CDTF">2024-08-22T02:20:33Z</dcterms:modified>
  <cp:revision>5</cp:revision>
  <dc:subject/>
  <dc:title/>
</cp:coreProperties>
</file>