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70748-E541-42C1-910A-43CF36AC6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48722-C9E8-41DD-90AD-D87895F60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DB8DC-A4DB-4E30-9B34-ABEC6C375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4788C-893E-4658-9AD5-A2373390E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BB8D3-D47F-4B67-9258-30934B777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864D1-D204-463E-8FF5-456018915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30760-DF17-4624-9E35-8793029AA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2CD84-FE97-45E2-94F2-5B88F136A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AFB8F-12D9-44D1-8232-A5D7B93F9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F1E19-D91D-4712-BDC8-B1E5F7FA3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C0CB5-6A2C-4267-8844-89AEC0705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F718E-D681-4FB5-BC1B-DDDB37AB2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D305-AF9A-4266-97E7-88EB88651658}"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k y</dc:creator>
  <dc:description/>
  <dc:language>en-US</dc:language>
  <cp:lastModifiedBy>k y</cp:lastModifiedBy>
  <dcterms:modified xsi:type="dcterms:W3CDTF">2024-08-21T04:27:46Z</dcterms:modified>
  <cp:revision>6</cp:revision>
  <dc:subject/>
  <dc:title/>
</cp:coreProperties>
</file>