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3F3E8-5224-4AE5-AD32-85BBA0C88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F57AC-0596-46DF-92AE-4B0955DB6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3B6B7-A5EF-4BE5-AFB8-7BBAFFEF3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A33D3-E0A9-439A-823C-DA768BFF2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1067B-E130-4ADB-9700-E0965339A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19F24-CEA6-4580-A838-DFB343DCB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026FE-F698-475C-A599-EE4404612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73C57-A594-4A71-A2B1-F3FBF1AE1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FA46E-F0AA-4F03-AA25-30050953D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C7E64-7A8F-40CF-B06D-E749735FE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92114-2118-46AE-AED1-D01842FC0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EB52E-077A-4CB2-9433-7FB02A626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043F-925E-4759-8E27-AA15D29EA75C}"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k y</dc:creator>
  <dc:description/>
  <dc:language>en-US</dc:language>
  <cp:lastModifiedBy>k y</cp:lastModifiedBy>
  <dcterms:modified xsi:type="dcterms:W3CDTF">2024-08-21T04:27:46Z</dcterms:modified>
  <cp:revision>6</cp:revision>
  <dc:subject/>
  <dc:title/>
</cp:coreProperties>
</file>