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5DDBF-F4E8-4C0D-AB27-05FC70407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75422-8F32-4787-AB12-8C540FD45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FE2EA-0C82-4871-A5E3-E2D25E5AA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D6028-66F1-4D4B-8F46-F4DA7DEB9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461CD-7BB5-48A5-8449-F97D879AB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14422-42BD-4D8F-B0F9-412570433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92AF9-F2C8-4B84-931D-3AEBBEB95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AA18D-66C4-41B3-B241-2A674CB75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0188F-1232-4C9B-B6B6-8E4EB8D36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6A19D-66E4-4DEA-896F-839BA1AF1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000F4-A1BC-48CA-9656-3DED0985D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11FFE-FA5B-4AEE-9C83-999D40546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FBF9C-B935-4025-974D-C5507A722E4D}"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k y</dc:creator>
  <dc:description/>
  <dc:language>en-US</dc:language>
  <cp:lastModifiedBy>k y</cp:lastModifiedBy>
  <dcterms:modified xsi:type="dcterms:W3CDTF">2024-08-21T04:27:46Z</dcterms:modified>
  <cp:revision>6</cp:revision>
  <dc:subject/>
  <dc:title/>
</cp:coreProperties>
</file>